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6031-F2AB-4E59-9FB8-40129A7B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005-5335-4962-994D-7D13D11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68B-D8C8-4B47-A73E-65E531E6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51E-1322-4E0D-B8CF-F65496F5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1E6-D0FB-409B-B1D2-0F0FF26B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0CB-E0FF-4898-9B3F-830F375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E0C-04D1-4510-87D0-EE5F0689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C6F-603F-4FA8-99D3-3D0B1C69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DB1-7C48-440A-8060-E4CAF39E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1F0-DBD7-42FE-A2D9-514364C0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6BA-AAD9-4A62-968B-0F94A91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284-84B5-431B-850F-EF373FA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411-1C2D-434C-AD16-43A022943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219" r="36631" b="55253"/>
          <a:stretch/>
        </p:blipFill>
        <p:spPr>
          <a:xfrm>
            <a:off x="380880" y="685800"/>
            <a:ext cx="3200400" cy="1962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33520" y="5410080"/>
            <a:ext cx="7543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ustomize your emails.  In Lotus Notes, while in your Inbox &gt; Tools &gt; Preferences, on the basics tab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heck Spel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Make a fancy letterhead – this appears at the top of your emai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reate a signature that automatically appends to the end of each email.  *Create a file first, save it, then browse to the spot  where you have it sa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133720"/>
            <a:ext cx="16002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04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 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5253" r="23761" b="51273"/>
          <a:stretch/>
        </p:blipFill>
        <p:spPr>
          <a:xfrm>
            <a:off x="4343400" y="685800"/>
            <a:ext cx="3505320" cy="2016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343400" y="22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 Lett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4934" r="29867" b="61942"/>
          <a:stretch/>
        </p:blipFill>
        <p:spPr>
          <a:xfrm>
            <a:off x="304920" y="3429000"/>
            <a:ext cx="3995640" cy="190188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7:13:13Z</dcterms:created>
  <dc:creator>xpsetup</dc:creator>
  <dc:description/>
  <dc:language>en-US</dc:language>
  <cp:lastModifiedBy>Jerri West</cp:lastModifiedBy>
  <dcterms:modified xsi:type="dcterms:W3CDTF">2007-08-27T13:33:15Z</dcterms:modified>
  <cp:revision>2</cp:revision>
  <dc:subject/>
  <dc:title>Slide 1</dc:title>
</cp:coreProperties>
</file>